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0BCA-DC03-4243-A534-A75F28955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1977-AC72-4DD2-A4CA-D2763A4F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993-9F49-4855-8949-00C4C1D7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782-DFD4-457D-A4E7-ED030DDF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433-4503-467C-BFB9-25CB8196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B4F-1ECB-46A1-9BEC-0BCF33D5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D9B-9629-461D-8DA2-C9BCC7C9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791-03FF-40CF-A1EC-8BCCF0E7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C17-376F-4EF5-B9B9-31413C0F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C41-3B28-41F9-BABF-E7524BA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F3E-ED9C-4A10-AF4D-689082D9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15F-63CF-4D11-B6DA-05099E1E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3C6-0F5A-4D90-A1FA-FEC0A62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2B6-E72F-4FE5-BFE4-B265F2FC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6293-B8B9-46FC-971C-A83BF654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CHELLE CORREA 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816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 mi nombre es Michelle. Yo tengo catorce Años. Yo vivo e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 York. Yo tengo dos hermanas. Mis herma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n altas. Yo soy Simpatica y divertida. Yo estoy feliz. Yo amo la musi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36360" y="5430960"/>
            <a:ext cx="640080" cy="933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334120"/>
            <a:ext cx="536760" cy="780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49528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616896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2286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4864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ien gracies mi linda, dulce ami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toy  Escribendo mi poema con mi herm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enemos que escribir una poema para escuela.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Hola. ¿Cómo están y que hacen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495680"/>
            <a:ext cx="373392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, bien. Yo estoy comendo. Y está bien.  Nosotros estamos felices  nuest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do.¿Tú tienes una hermana?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02920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02920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y qué bueno. Ustedes son muy inteligente.                                                        Man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962000" y="5638680"/>
            <a:ext cx="648000" cy="933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63868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ú tamen eres inteligente.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90720" y="6095880"/>
            <a:ext cx="48096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66520" y="6591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Photo on 2011-10-21 at 13.53 #2.jpg"/>
          <p:cNvPicPr/>
          <p:nvPr/>
        </p:nvPicPr>
        <p:blipFill>
          <a:blip r:embed="rId12"/>
          <a:stretch/>
        </p:blipFill>
        <p:spPr>
          <a:xfrm>
            <a:off x="2041560" y="624852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2666880" y="6248520"/>
            <a:ext cx="4114800" cy="457200"/>
          </a:xfrm>
          <a:prstGeom prst="rect">
            <a:avLst/>
          </a:prstGeom>
          <a:gradFill rotWithShape="0">
            <a:gsLst>
              <a:gs pos="0">
                <a:srgbClr val="e9e9f7"/>
              </a:gs>
              <a:gs pos="100000">
                <a:srgbClr val="acace1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i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8:28:55Z</dcterms:modified>
  <cp:revision>112</cp:revision>
  <dc:subject/>
  <dc:title>Profile</dc:title>
</cp:coreProperties>
</file>